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43B-F5AA-4F1A-88C8-AABFD11F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B57-2782-490A-9907-BD82E54D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0E5-A87F-4742-827B-057354F0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046-4D90-4BC4-8444-3BD1029E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0CFB-5446-4038-B6A7-9D55D0E4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8E9A-EE56-41AB-AB5C-946CF083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117C-620B-4337-B3BD-78BAA758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EAEB-BCD2-4279-AC92-16908CCD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6D90-0FE5-4E5C-A317-F981AE51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F7EB-759C-469F-BC9B-E8DCF940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9351-9E6D-4F6B-BD9C-70571DBE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257-DC13-46D4-80A5-6B834D33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D0B9-345F-43F5-8C0C-98602992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53D3-A746-4774-8A7A-36A6A343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1ED7-7494-43E2-AFB7-CD7F2063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5B61-5C39-49B3-88BC-889CB590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D796-0C91-446E-8A5F-414FA045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12D-841D-4A67-BFB5-3D50D474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0B5-F5B0-4875-A598-B3479139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F08-3564-47D3-819E-D24F1A70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D64-075C-44A4-B838-CE8D4516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BAF-D130-4474-B816-531902B2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5F8-BB8C-48FB-A569-82AE077A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754-D0E9-455F-8AC4-2E90C99F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11DB-67BE-4C81-AB21-D6A0359A3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39F2-AC0A-4E9E-A8AB-0ED125837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wsobserver.com/business" TargetMode="External"/><Relationship Id="rId2" Type="http://schemas.openxmlformats.org/officeDocument/2006/relationships/hyperlink" Target="http://www.newsobserver.com/business" TargetMode="External"/><Relationship Id="rId3" Type="http://schemas.openxmlformats.org/officeDocument/2006/relationships/hyperlink" Target="http://www.newsobserver.com/business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itizentimes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66"/>
                </a:solidFill>
                <a:latin typeface="Arial"/>
              </a:rPr>
              <a:t>3.02E Website File Management</a:t>
            </a:r>
            <a:br>
              <a:rPr sz="4100"/>
            </a:b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3580920"/>
            <a:ext cx="60962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02 Develop web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File Management</a:t>
            </a:r>
            <a:br>
              <a:rPr sz="4000"/>
            </a:b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Folder Structure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6934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 website should be saved in one folder (the Root Folder)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ubfolders can be used to organize content within the root folder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File Management</a:t>
            </a:r>
            <a:br>
              <a:rPr sz="4000"/>
            </a:b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The Root Folder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000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is example, the root folder contain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.htm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(index/home pa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er Forms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2"/>
          <p:cNvGrpSpPr/>
          <p:nvPr/>
        </p:nvGrpSpPr>
        <p:grpSpPr>
          <a:xfrm>
            <a:off x="4419720" y="2133720"/>
            <a:ext cx="3504960" cy="2934720"/>
            <a:chOff x="4419720" y="2133720"/>
            <a:chExt cx="3504960" cy="2934720"/>
          </a:xfrm>
        </p:grpSpPr>
        <p:sp>
          <p:nvSpPr>
            <p:cNvPr id="95" name="Text Box 9"/>
            <p:cNvSpPr/>
            <p:nvPr/>
          </p:nvSpPr>
          <p:spPr>
            <a:xfrm>
              <a:off x="4419720" y="2133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cc00"/>
                  </a:solidFill>
                  <a:latin typeface="Arial"/>
                </a:rPr>
                <a:t>Root Folder Content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6083280" y="4505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bf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17" descr=""/>
            <p:cNvPicPr/>
            <p:nvPr/>
          </p:nvPicPr>
          <p:blipFill>
            <a:blip r:embed="rId1"/>
            <a:srcRect l="21093" t="15627" r="42969" b="66668"/>
            <a:stretch/>
          </p:blipFill>
          <p:spPr>
            <a:xfrm>
              <a:off x="4419720" y="2724120"/>
              <a:ext cx="3504960" cy="129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" name="Group 18"/>
            <p:cNvGrpSpPr/>
            <p:nvPr/>
          </p:nvGrpSpPr>
          <p:grpSpPr>
            <a:xfrm>
              <a:off x="4514760" y="4010040"/>
              <a:ext cx="914400" cy="1058400"/>
              <a:chOff x="4514760" y="4010040"/>
              <a:chExt cx="914400" cy="1058400"/>
            </a:xfrm>
          </p:grpSpPr>
          <p:sp>
            <p:nvSpPr>
              <p:cNvPr id="99" name="Text Box 11"/>
              <p:cNvSpPr/>
              <p:nvPr/>
            </p:nvSpPr>
            <p:spPr>
              <a:xfrm>
                <a:off x="4514760" y="4425840"/>
                <a:ext cx="914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ome p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5"/>
              <p:cNvSpPr/>
              <p:nvPr/>
            </p:nvSpPr>
            <p:spPr>
              <a:xfrm flipV="1">
                <a:off x="4981320" y="4010040"/>
                <a:ext cx="0" cy="4572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21"/>
            <p:cNvGrpSpPr/>
            <p:nvPr/>
          </p:nvGrpSpPr>
          <p:grpSpPr>
            <a:xfrm>
              <a:off x="6140160" y="3993840"/>
              <a:ext cx="1251360" cy="530640"/>
              <a:chOff x="6140160" y="3993840"/>
              <a:chExt cx="1251360" cy="530640"/>
            </a:xfrm>
          </p:grpSpPr>
          <p:sp>
            <p:nvSpPr>
              <p:cNvPr id="102" name="Line 13"/>
              <p:cNvSpPr/>
              <p:nvPr/>
            </p:nvSpPr>
            <p:spPr>
              <a:xfrm flipV="1">
                <a:off x="6172200" y="3993840"/>
                <a:ext cx="0" cy="501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9"/>
              <p:cNvSpPr/>
              <p:nvPr/>
            </p:nvSpPr>
            <p:spPr>
              <a:xfrm flipV="1">
                <a:off x="7391520" y="4022640"/>
                <a:ext cx="0" cy="501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0"/>
              <p:cNvSpPr/>
              <p:nvPr/>
            </p:nvSpPr>
            <p:spPr>
              <a:xfrm flipH="1">
                <a:off x="6140160" y="4495680"/>
                <a:ext cx="12510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File Management</a:t>
            </a:r>
            <a:br>
              <a:rPr sz="4000"/>
            </a:b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Folder Names and Filenames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3771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werca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etters for all folder and filena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23920" y="220968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ders are represented by</a:t>
            </a:r>
            <a:r>
              <a:rPr b="0" lang="en-US" sz="3600" spc="-1" strike="noStrike">
                <a:solidFill>
                  <a:srgbClr val="f3140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3140f"/>
                </a:solidFill>
                <a:latin typeface="Arial"/>
              </a:rPr>
              <a:t>/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the UR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www.newsobserver.com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/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busi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343400" y="2666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File Management</a:t>
            </a:r>
            <a:br>
              <a:rPr sz="4000"/>
            </a:b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Hyperlinks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ve hyperlink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point to other files within the websi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new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olute hyperlink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point to other websi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www.citizentimes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2:42:01Z</dcterms:created>
  <dc:creator>Lee O'Neal</dc:creator>
  <dc:description/>
  <dc:language>en-US</dc:language>
  <cp:lastModifiedBy>ycsadmin</cp:lastModifiedBy>
  <dcterms:modified xsi:type="dcterms:W3CDTF">2011-06-25T00:24:25Z</dcterms:modified>
  <cp:revision>36</cp:revision>
  <dc:subject/>
  <dc:title>Web Site Development  Competency 8 Create a multimedia web site.</dc:title>
</cp:coreProperties>
</file>